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454-71EC-4A4D-9603-89A5E393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F91-5F96-41FB-BAA6-22E5CD81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CFD-D749-491F-9DCF-BDA97365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F3A-A86B-4E15-9C7A-CB9A8B22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3063-2DB5-4A33-8526-528E94D0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1F07-0138-42B0-991A-9CA1E6F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DAA0-1240-4500-9636-3937550E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FEED-1E8C-4727-AA8D-78EE154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06B0-BBD5-4587-AD16-855E9925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4D6D-E069-4295-ADC8-2B577ACF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6F3B-6F79-4569-8691-5A7F612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58D-669D-4F4D-BC52-8CFF6BE2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71A-1341-4D53-A74D-4F13128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8F85-BC70-42EB-876A-5179FD1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B93C-FA3F-42A9-BA1E-73902FF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911-1EBB-4F2B-8CCD-81B646C8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0E1-8218-4FB5-B745-E5EC9903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639-D477-4BD2-AEFF-9B0621A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515-6ABE-4FFE-9789-B19B186D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D20-CF2C-4FD3-B26B-0AECC649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B8C-AE38-4B97-9763-A10518E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7E5-2E23-4739-8DD4-DBF6596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A8C-B42A-4F31-BB0E-64955E01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813-D551-46F8-A93C-54001C5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972040" y="20304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0EAD-AE8F-4D1E-8626-7241900353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6114960" y="203040"/>
            <a:ext cx="593280" cy="1726920"/>
            <a:chOff x="6114960" y="203040"/>
            <a:chExt cx="593280" cy="1726920"/>
          </a:xfrm>
        </p:grpSpPr>
        <p:sp>
          <p:nvSpPr>
            <p:cNvPr id="7" name="Oval 9"/>
            <p:cNvSpPr/>
            <p:nvPr/>
          </p:nvSpPr>
          <p:spPr>
            <a:xfrm>
              <a:off x="6114960" y="20304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6240600" y="203040"/>
              <a:ext cx="8892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6366600" y="203040"/>
              <a:ext cx="8748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6114960" y="42696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6240600" y="42696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6366600" y="426960"/>
              <a:ext cx="8748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6492600" y="42696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6114960" y="65088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6240600" y="65088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366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6492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6618600" y="65088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6114960" y="87480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240600" y="87480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6366600" y="874800"/>
              <a:ext cx="8748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6492600" y="87480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6114960" y="1098720"/>
              <a:ext cx="8964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6240600" y="109872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366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6492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6618600" y="1098720"/>
              <a:ext cx="89640" cy="159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6114960" y="1322640"/>
              <a:ext cx="89640" cy="157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6240600" y="1322640"/>
              <a:ext cx="8892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6366600" y="1322640"/>
              <a:ext cx="8748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492600" y="1322640"/>
              <a:ext cx="87480" cy="1576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6114960" y="154656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6240600" y="1546560"/>
              <a:ext cx="8892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6366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6492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6240600" y="1770480"/>
              <a:ext cx="8892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6492600" y="1770480"/>
              <a:ext cx="8748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5486400" y="1422360"/>
            <a:ext cx="0" cy="599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5619600" y="3989520"/>
            <a:ext cx="1002960" cy="2918520"/>
            <a:chOff x="5619600" y="3989520"/>
            <a:chExt cx="1002960" cy="2918520"/>
          </a:xfrm>
        </p:grpSpPr>
        <p:sp>
          <p:nvSpPr>
            <p:cNvPr id="76" name="Oval 9"/>
            <p:cNvSpPr/>
            <p:nvPr/>
          </p:nvSpPr>
          <p:spPr>
            <a:xfrm>
              <a:off x="561960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583272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6044400" y="398952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561960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583272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6044400" y="436860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6259680" y="436860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561960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583272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604440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625968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6471720" y="474732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5619600" y="512424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5832720" y="51242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6044400" y="512424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6259680" y="51242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561960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583272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604440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625968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6471720" y="550296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5619600" y="58820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5832720" y="588204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6044400" y="58820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6259680" y="588204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561960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583272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604440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625968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5832720" y="663948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6259680" y="663948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228600" y="3759120"/>
            <a:ext cx="6172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4351-90A4-4B6A-8D22-6E6CB9C2B4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840" y="1714320"/>
            <a:ext cx="541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ИЙСКОЙ ФЕДЕРАЦИИ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9000" y="4065120"/>
            <a:ext cx="52927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многоборь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-11.09.2016 г.                              г. Адлер с/к «Ю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0280" y="971640"/>
            <a:ext cx="5657760" cy="16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многоборьям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8-11.09.2016 г.                                  г. Адлер с/к «Юность»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   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9360" y="2627280"/>
          <a:ext cx="6048360" cy="6024600"/>
        </p:xfrm>
        <a:graphic>
          <a:graphicData uri="http://schemas.openxmlformats.org/drawingml/2006/table">
            <a:tbl>
              <a:tblPr/>
              <a:tblGrid>
                <a:gridCol w="2173320"/>
                <a:gridCol w="1714320"/>
                <a:gridCol w="463680"/>
                <a:gridCol w="169704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з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 делегат ВФ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Фаст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ыба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Шп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Ис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Моч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обору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6-09-09T10:03:34Z</cp:lastPrinted>
  <dcterms:modified xsi:type="dcterms:W3CDTF">2016-09-09T10:05:03Z</dcterms:modified>
  <cp:revision>3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